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67203"/>
        <c:axId val="73513771"/>
      </c:barChart>
      <c:catAx>
        <c:axId val="33267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3771"/>
        <c:crosses val="autoZero"/>
        <c:auto val="1"/>
        <c:lblAlgn val="ctr"/>
        <c:lblOffset val="100"/>
        <c:noMultiLvlLbl val="0"/>
      </c:catAx>
      <c:valAx>
        <c:axId val="73513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67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73D-BA01-47DC-A008-D5F5A05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64F-4D48-4866-9480-2E8BBFFA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F242-DCD4-4883-8F69-5F07D5FD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B53-3DDC-4C96-A3A2-E6F85017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EB8-11F7-4A7A-B055-736ADEA4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956-469A-4CAD-9970-34D2BB77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040-E000-453F-9EA7-6E03966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6D2-A160-4B8E-8C6F-5A1FA3DB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797-557F-40DB-BA93-31CD4D6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90EB-0749-4926-82DB-E777D27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08B-78BE-4DCB-9BF4-0681B07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6ED-3202-4D22-AB44-5DCF8BF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D8165-F176-4EF6-B600-95B3FCE740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